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7.wmf" ContentType="image/x-wmf"/>
  <Override PartName="/ppt/media/image13.png" ContentType="image/png"/>
  <Override PartName="/ppt/media/image12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png" ContentType="image/png"/>
  <Override PartName="/ppt/media/image32.jpeg" ContentType="image/jpeg"/>
  <Override PartName="/ppt/media/image33.png" ContentType="image/png"/>
  <Override PartName="/ppt/media/image16.wmf" ContentType="image/x-wmf"/>
  <Override PartName="/ppt/media/image9.jpeg" ContentType="image/jpeg"/>
  <Override PartName="/ppt/media/image11.png" ContentType="image/png"/>
  <Override PartName="/ppt/media/image34.wmf" ContentType="image/x-wmf"/>
  <Override PartName="/ppt/media/image35.wmf" ContentType="image/x-wmf"/>
  <Override PartName="/ppt/media/image3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E650-424D-4BF7-B728-D7D0883C6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103C-DD9F-4A86-8FDB-0077C9696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1481-2946-4EF5-A73A-A593AE8EA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634E-1120-43A2-8604-51CF2B167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A8CD-3B14-4072-ABF3-320397B6C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29C8-FF91-4A01-8086-FBC5147A3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3A7F-FD99-4C94-B9B4-286D063A2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972D-5C9F-4466-9FA9-64F4985A3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E215-425D-4C88-A918-67598CF67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195D-3A4A-4FBE-99BE-2144BD443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810B-3CF1-4154-975F-70705270B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0441-8698-4B38-80BD-8A887828E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FC00-43B8-4BB4-9AC2-7C280F09D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E911-A5AB-41A8-9F4F-8D3E09BE5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BAC0-6328-4509-96FE-A724D7F20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E002-3090-4837-9845-E14B0FCE3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9763-56D5-4C63-AA3E-FE9C3C0C8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6772-1A6E-4239-99AE-DB1F9026D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BD9F-673A-45EC-8D54-A0F7E99BE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B66A-96A0-48D5-A2DD-1EA281F20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B334-4BA0-4CC7-B958-A419CB2B6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045E-C281-4536-95B2-C810B260E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1D5F-24F9-4C04-84F6-030FA2941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A322-8D23-423F-8007-CFD1299AB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1402-A8DB-4566-A425-441EBF452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9779-D8F6-4E1D-9E09-5D484D665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4446-11E0-4589-9775-00A1D1190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6D51-0EE2-452A-AB28-3FDA68B95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5B10-131D-44B4-BE83-47CD6B382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AB21-D550-435B-8AAB-A2CFC04E9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9972-E3B5-4AF1-A808-8452450A3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3396-A69B-4821-9BF0-DABC90F20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41DE-72E6-4FBF-ADB3-82EBE06C6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4E0B-5B1B-4C13-A309-E8DD3CE9D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A814-C093-4C52-9F93-59730A634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EC27-5246-44D3-A669-06D11B192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3C891-6AF7-4E34-A01E-994C914C8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363C5-799D-451C-BDF4-F702D9FDE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4B1F4-B1C8-4F5E-87BE-141503BC0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34464-FE44-42A2-AD4B-039FEFA39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7579-3E9C-4D87-A3AC-2E3F29F471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0780-9BBA-4E44-9746-9D5D1195B9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E3B-6C3F-4607-8210-9EAC3030B3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F4A6-6023-4241-9D17-6F44858EBB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70E1-F8FB-48B4-8A30-228601D14F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7DF5-AF1F-43D3-AF3B-82391A8526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A7BA-4ADA-4720-914F-752BBEAE8C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E9704-C31A-46E9-8A34-AC7CFF449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7AC-75F9-4DA3-97A2-2FA4F9C89F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338D-2780-47CC-9AB0-9183EC8391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B37C-B7CC-403A-9F02-74BA12CE4E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B0E0-34DF-4A7C-98B9-CB10EE69C2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0632-37E2-4641-8F6D-52141B58CE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13BAE-6027-4131-B74D-F96718D44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54A42-6B54-4697-BDA8-E2B844104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BDBF6-3DC1-438D-B224-759B130F5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7C03D-951B-47AC-99E1-2F12AE3B7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5A5C4-F27C-4848-85AE-FE0704BC3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2C80C-475E-44AE-BD54-5EF192050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FAF41-67E5-4DE7-98C6-11CACDF77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1B70-8380-4FC0-8821-2E16810798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F39C-B04D-4321-8BD6-B09039C50E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11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4F8A-8651-4475-97B5-B6F4D15AD2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ffff"/>
                </a:solidFill>
                <a:latin typeface="Verdana"/>
              </a:rPr>
              <a:t>Évaluation : Audits</a:t>
            </a:r>
            <a:endParaRPr b="0" lang="en-US" sz="4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F770-B88B-42CF-9A2B-EC226F2A39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MCj04349290000[1]"/>
          <p:cNvPicPr/>
          <p:nvPr/>
        </p:nvPicPr>
        <p:blipFill>
          <a:blip r:embed="rId1"/>
          <a:stretch/>
        </p:blipFill>
        <p:spPr>
          <a:xfrm>
            <a:off x="205740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rcRect l="0" t="15625" r="0" b="0"/>
          <a:stretch/>
        </p:blipFill>
        <p:spPr>
          <a:xfrm>
            <a:off x="5029200" y="4819680"/>
            <a:ext cx="3220920" cy="203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ueillir l’information su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ocessus et les procédures opérato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ersonnel, l’équipement, méthodes d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’environnement, la manipulation des échantill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contrôle de qualité et la vérification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atiques d’enregistrement et de rap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1B59-EED0-43A7-8002-6D719F32EB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arer les résultants aux documents du système de gestion de la qualité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toute rupture ou déviation par rapport aux procédu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quelque chose des résultats d’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FE2C-216B-448B-9979-2E8B5E2D17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178" name="Oval 5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Autorités de san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4724280" y="914400"/>
            <a:ext cx="441972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gence d’accréd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5562720" y="4343400"/>
            <a:ext cx="358128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gramme de santé publ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Bailleurs</a:t>
            </a:r>
            <a:br>
              <a:rPr sz="3200"/>
            </a:b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de fo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urs extern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lab_design"/>
          <p:cNvPicPr/>
          <p:nvPr/>
        </p:nvPicPr>
        <p:blipFill>
          <a:blip r:embed="rId2"/>
          <a:stretch/>
        </p:blipFill>
        <p:spPr>
          <a:xfrm>
            <a:off x="3048120" y="1981080"/>
            <a:ext cx="2593800" cy="3124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3124080" y="31240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931F-C17A-4A5C-A193-552E7D027F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189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" name="Group 32"/>
          <p:cNvGrpSpPr/>
          <p:nvPr/>
        </p:nvGrpSpPr>
        <p:grpSpPr>
          <a:xfrm>
            <a:off x="533520" y="3581280"/>
            <a:ext cx="5234040" cy="2933640"/>
            <a:chOff x="533520" y="3581280"/>
            <a:chExt cx="5234040" cy="2933640"/>
          </a:xfrm>
        </p:grpSpPr>
        <p:pic>
          <p:nvPicPr>
            <p:cNvPr id="194" name="Picture 5" descr="j0213395"/>
            <p:cNvPicPr/>
            <p:nvPr/>
          </p:nvPicPr>
          <p:blipFill>
            <a:blip r:embed="rId1"/>
            <a:stretch/>
          </p:blipFill>
          <p:spPr>
            <a:xfrm>
              <a:off x="4114800" y="442332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" descr="j0433934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6"/>
            <p:cNvSpPr/>
            <p:nvPr/>
          </p:nvSpPr>
          <p:spPr>
            <a:xfrm>
              <a:off x="1905120" y="4227120"/>
              <a:ext cx="23778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Avertir personnel, aménager emploi du temp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Rectangle 17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éparation d’un audit extern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4648320"/>
            <a:ext cx="350532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assembler les informations et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9" name="Group 31"/>
          <p:cNvGrpSpPr/>
          <p:nvPr/>
        </p:nvGrpSpPr>
        <p:grpSpPr>
          <a:xfrm>
            <a:off x="380880" y="1447920"/>
            <a:ext cx="3885480" cy="2361600"/>
            <a:chOff x="380880" y="1447920"/>
            <a:chExt cx="3885480" cy="2361600"/>
          </a:xfrm>
        </p:grpSpPr>
        <p:pic>
          <p:nvPicPr>
            <p:cNvPr id="200" name="Picture 27" descr="MCj03636380000[1]"/>
            <p:cNvPicPr/>
            <p:nvPr/>
          </p:nvPicPr>
          <p:blipFill>
            <a:blip r:embed="rId3"/>
            <a:stretch/>
          </p:blipFill>
          <p:spPr>
            <a:xfrm>
              <a:off x="380880" y="1447920"/>
              <a:ext cx="3650400" cy="23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29"/>
            <p:cNvSpPr/>
            <p:nvPr/>
          </p:nvSpPr>
          <p:spPr>
            <a:xfrm>
              <a:off x="1087200" y="2149920"/>
              <a:ext cx="317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ifier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1178-951B-4F22-BFF9-230E62DE54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21"/>
          <p:cNvSpPr/>
          <p:nvPr/>
        </p:nvSpPr>
        <p:spPr>
          <a:xfrm rot="10800000">
            <a:off x="2438280" y="5409720"/>
            <a:ext cx="6400800" cy="8384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apport d’audit externe et plan d’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Identifiez manquements/non conformité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nregistrez les résultats et action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digez un ra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Planifiez des 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Développez un calendr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ttribuez les responsabilit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4495680" y="1066680"/>
            <a:ext cx="44197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Laboratoire revoit/ comprend les recomma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2914560" y="1219320"/>
            <a:ext cx="1524240" cy="76176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22"/>
          <p:cNvSpPr/>
          <p:nvPr/>
        </p:nvSpPr>
        <p:spPr>
          <a:xfrm rot="5400000">
            <a:off x="6705000" y="3276360"/>
            <a:ext cx="3657600" cy="7621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26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609480" y="1447920"/>
            <a:ext cx="2133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apport et résumé des auditeurs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743B-6DC0-46B7-B6A1-F6E7D93E5E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6" descr="MCj04099450000[1]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3" descr="spy_guy_bck_col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6553080" y="914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9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6400800" y="3505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Moins coût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78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quis par standards I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réguliè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quand problèmes identifi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4"/>
          <p:cNvSpPr/>
          <p:nvPr/>
        </p:nvSpPr>
        <p:spPr>
          <a:xfrm>
            <a:off x="2895480" y="1293840"/>
            <a:ext cx="266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garder ses propres process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87" descr="bulles_CDC"/>
          <p:cNvPicPr/>
          <p:nvPr/>
        </p:nvPicPr>
        <p:blipFill>
          <a:blip r:embed="rId4"/>
          <a:stretch/>
        </p:blipFill>
        <p:spPr>
          <a:xfrm>
            <a:off x="228600" y="3670200"/>
            <a:ext cx="26668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D65A-244A-4135-BB88-2A1279AF97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aleur des audits intern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préparer pour un audit exter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nsibiliser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’amélio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ctions préventives et correctiv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e form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ondre aux standards d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43DD-21DF-489D-B6F8-3CB845F1F7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s Internes : Exigences IS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0" y="1752480"/>
            <a:ext cx="91440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e d’audit ex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édures document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diteurs indépendants de l’activ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ltats rendus sous forme de rapport et revus par la directio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tion de suivi rap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23C9-EC23-4F2A-8A43-9D0EC738BD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i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rc 5"/>
          <p:cNvSpPr/>
          <p:nvPr/>
        </p:nvSpPr>
        <p:spPr>
          <a:xfrm>
            <a:off x="7238880" y="22860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rc 6"/>
          <p:cNvSpPr/>
          <p:nvPr/>
        </p:nvSpPr>
        <p:spPr>
          <a:xfrm rot="5400000">
            <a:off x="5295960" y="2857680"/>
            <a:ext cx="129528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7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AutoShape 8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9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257800" y="16002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ériolog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3581280" y="762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é a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dits inter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0" y="1981080"/>
            <a:ext cx="4038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 pas auditer votre propre trava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utr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18FE-BBF6-463C-8E2F-FF8C1FD4B6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Group 12"/>
          <p:cNvGrpSpPr/>
          <p:nvPr/>
        </p:nvGrpSpPr>
        <p:grpSpPr>
          <a:xfrm>
            <a:off x="152280" y="533520"/>
            <a:ext cx="8991000" cy="5790600"/>
            <a:chOff x="152280" y="533520"/>
            <a:chExt cx="8991000" cy="5790600"/>
          </a:xfrm>
        </p:grpSpPr>
        <p:sp>
          <p:nvSpPr>
            <p:cNvPr id="252" name="AutoShape 11"/>
            <p:cNvSpPr/>
            <p:nvPr/>
          </p:nvSpPr>
          <p:spPr>
            <a:xfrm>
              <a:off x="152280" y="533520"/>
              <a:ext cx="8991000" cy="57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réparer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listes de contrôle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lanifier 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réguliers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Programme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d’audit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interne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ttribuer </a:t>
              </a:r>
              <a:br>
                <a:rPr sz="25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responsabilité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0" name="Text Box 3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7" descr="j0432664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bs00272_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MCj04349290000[1]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head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433A-C2D0-4876-A415-AD0FCCA172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processus préparant le personnel à un audit ex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nifier et gérer un audit in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comment utiliser les résultats d’un au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idoyer à propos de l’importance des mesures correctives à prend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9AB2-10BE-4836-93F1-6FF4B8DF4D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AutoShape 24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13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828800" y="7621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Directeur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066680" y="2362320"/>
            <a:ext cx="3048120" cy="1557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Détermine la ligne de conduit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8440" y="4843440"/>
            <a:ext cx="403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Assigne responsabilités</a:t>
            </a: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pour le programme d’audit interne – </a:t>
            </a:r>
            <a:r>
              <a:rPr b="0" lang="fr-FR" sz="1800" spc="-1" strike="noStrike">
                <a:solidFill>
                  <a:srgbClr val="ff6600"/>
                </a:solidFill>
                <a:latin typeface="Verdana"/>
              </a:rPr>
              <a:t>responsable qualit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00800" y="2514600"/>
            <a:ext cx="20574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soutient les mesures d’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20"/>
          <p:cNvSpPr/>
          <p:nvPr/>
        </p:nvSpPr>
        <p:spPr>
          <a:xfrm rot="5400000">
            <a:off x="1943280" y="1333440"/>
            <a:ext cx="761760" cy="9907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21"/>
          <p:cNvSpPr/>
          <p:nvPr/>
        </p:nvSpPr>
        <p:spPr>
          <a:xfrm rot="5400000">
            <a:off x="1942560" y="3543120"/>
            <a:ext cx="914400" cy="114300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2"/>
          <p:cNvSpPr/>
          <p:nvPr/>
        </p:nvSpPr>
        <p:spPr>
          <a:xfrm rot="5400000">
            <a:off x="6819840" y="1485720"/>
            <a:ext cx="990720" cy="10670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23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26"/>
          <p:cNvSpPr/>
          <p:nvPr/>
        </p:nvSpPr>
        <p:spPr>
          <a:xfrm>
            <a:off x="1905120" y="5715000"/>
            <a:ext cx="761760" cy="5335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2BE7-4083-46F2-8C72-9889B10D2D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31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52280" y="457200"/>
            <a:ext cx="8686800" cy="16250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Responsabilité du Responsab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Créer et maintenir un systèm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200400" y="265284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oordonne le processus d’audit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Gérer</a:t>
            </a:r>
            <a:br>
              <a:rPr sz="2000"/>
            </a:b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17"/>
          <p:cNvSpPr/>
          <p:nvPr/>
        </p:nvSpPr>
        <p:spPr>
          <a:xfrm rot="5400000">
            <a:off x="4076640" y="1942920"/>
            <a:ext cx="609480" cy="8380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57200" y="2362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Établir un calendr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’audi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304920" y="4876920"/>
            <a:ext cx="2057400" cy="13716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333360" y="5032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e perso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14"/>
          <p:cNvSpPr/>
          <p:nvPr/>
        </p:nvSpPr>
        <p:spPr>
          <a:xfrm rot="11374200">
            <a:off x="2133000" y="256788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5181480" y="5410080"/>
            <a:ext cx="144792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AutoShape 22"/>
          <p:cNvSpPr/>
          <p:nvPr/>
        </p:nvSpPr>
        <p:spPr>
          <a:xfrm rot="10800000">
            <a:off x="2209680" y="5333760"/>
            <a:ext cx="1371600" cy="53316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28"/>
          <p:cNvSpPr/>
          <p:nvPr/>
        </p:nvSpPr>
        <p:spPr>
          <a:xfrm>
            <a:off x="380880" y="3276720"/>
            <a:ext cx="1905120" cy="12189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457200" y="3276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Sélectionner et former des audite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30"/>
          <p:cNvSpPr/>
          <p:nvPr/>
        </p:nvSpPr>
        <p:spPr>
          <a:xfrm rot="9818400">
            <a:off x="2133000" y="327636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5"/>
          <p:cNvSpPr/>
          <p:nvPr/>
        </p:nvSpPr>
        <p:spPr>
          <a:xfrm rot="19251600">
            <a:off x="5257440" y="3733920"/>
            <a:ext cx="182880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553080" y="52768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a dir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FF73-08EE-4549-8444-03F81C7606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ner un audit inter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diger des listes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’ouver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cueillir et analyser les inform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e clô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4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8003-801C-4386-8DD7-34322C00BF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10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124080" y="3809880"/>
            <a:ext cx="2438640" cy="23400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96"/>
          <p:cNvGrpSpPr/>
          <p:nvPr/>
        </p:nvGrpSpPr>
        <p:grpSpPr>
          <a:xfrm>
            <a:off x="2639880" y="3657600"/>
            <a:ext cx="3228840" cy="2860560"/>
            <a:chOff x="2639880" y="3657600"/>
            <a:chExt cx="3228840" cy="2860560"/>
          </a:xfrm>
        </p:grpSpPr>
        <p:sp>
          <p:nvSpPr>
            <p:cNvPr id="313" name="AutoShape 95"/>
            <p:cNvSpPr/>
            <p:nvPr/>
          </p:nvSpPr>
          <p:spPr>
            <a:xfrm>
              <a:off x="2868480" y="3657600"/>
              <a:ext cx="27702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620643"/>
            <p:cNvSpPr/>
            <p:nvPr/>
          </p:nvSpPr>
          <p:spPr>
            <a:xfrm>
              <a:off x="3240720" y="3857400"/>
              <a:ext cx="2026440" cy="184032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_s620644"/>
            <p:cNvSpPr/>
            <p:nvPr/>
          </p:nvSpPr>
          <p:spPr>
            <a:xfrm rot="7200000">
              <a:off x="3610800" y="419868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_s620646"/>
            <p:cNvSpPr/>
            <p:nvPr/>
          </p:nvSpPr>
          <p:spPr>
            <a:xfrm rot="14400000">
              <a:off x="3057120" y="420120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_s620641"/>
            <p:cNvSpPr/>
            <p:nvPr/>
          </p:nvSpPr>
          <p:spPr>
            <a:xfrm>
              <a:off x="480888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_s620642"/>
            <p:cNvSpPr/>
            <p:nvPr/>
          </p:nvSpPr>
          <p:spPr>
            <a:xfrm>
              <a:off x="3847320" y="57067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620645"/>
            <p:cNvSpPr/>
            <p:nvPr/>
          </p:nvSpPr>
          <p:spPr>
            <a:xfrm>
              <a:off x="288576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réer un calendrier d’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ner des audits réguliè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dits plus fréquent en cas de problèmes ou de besoin d’améli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audits devraient au cours du temps revoir tous les points essentiels du système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B88A-5B51-409F-89C4-BDF94E0163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67053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ck-lists (listes de contrôle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formulaires pour les actions correctives et les rap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609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CORRECTIVE ACTION FORM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0B6E-2808-45B6-B6D8-165146C61E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8" descr="Untitled-7"/>
          <p:cNvPicPr/>
          <p:nvPr/>
        </p:nvPicPr>
        <p:blipFill>
          <a:blip r:embed="rId1"/>
          <a:stretch/>
        </p:blipFill>
        <p:spPr>
          <a:xfrm>
            <a:off x="685800" y="1143000"/>
            <a:ext cx="71629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3461-7740-4CD6-A1D3-302405D9D0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2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 rot="5400000">
            <a:off x="1294920" y="3047760"/>
            <a:ext cx="1295280" cy="129564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audits doiven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5638680" y="13716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des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AutoShape 7"/>
          <p:cNvSpPr/>
          <p:nvPr/>
        </p:nvSpPr>
        <p:spPr>
          <a:xfrm rot="20101800">
            <a:off x="3123720" y="3885840"/>
            <a:ext cx="3619800" cy="12952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9960-3880-4A7A-8EBE-6631B6540C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5" descr="j0435880"/>
          <p:cNvPicPr/>
          <p:nvPr/>
        </p:nvPicPr>
        <p:blipFill>
          <a:blip r:embed="rId1"/>
          <a:stretch/>
        </p:blipFill>
        <p:spPr>
          <a:xfrm>
            <a:off x="5486400" y="3166920"/>
            <a:ext cx="2819520" cy="2514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correctives et de rattrapag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es actions sont prises pour améliorer un processus ou corriger un problè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228600" y="3809880"/>
            <a:ext cx="5562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i est responsable?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8000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A236-C7C5-41ED-808E-19442D23F6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ntreprendre des actions correctiv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e équipe de résolution de problè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ercher les causes premiè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commander l’action corrective approprié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ttre en oeuvre l’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bserver l’efficacité de l’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s actions et leurs résult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846E-2551-4967-993F-EB2062119D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Formulaire d’opportunité d’amélio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52" name="Picture 6" descr="CORRECTIVE ACTION FORM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53" name="ZoneTexte 5"/>
          <p:cNvSpPr/>
          <p:nvPr/>
        </p:nvSpPr>
        <p:spPr>
          <a:xfrm>
            <a:off x="3200400" y="1447920"/>
            <a:ext cx="2971800" cy="27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rmulaire d’action correct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ZoneTexte 6"/>
          <p:cNvSpPr/>
          <p:nvPr/>
        </p:nvSpPr>
        <p:spPr>
          <a:xfrm>
            <a:off x="2362320" y="1963800"/>
            <a:ext cx="32004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ette action corrective est le résultat d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ZoneTexte 7"/>
          <p:cNvSpPr/>
          <p:nvPr/>
        </p:nvSpPr>
        <p:spPr>
          <a:xfrm>
            <a:off x="2819520" y="251460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in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ZoneTexte 8"/>
          <p:cNvSpPr/>
          <p:nvPr/>
        </p:nvSpPr>
        <p:spPr>
          <a:xfrm>
            <a:off x="2819520" y="28018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ex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ZoneTexte 9"/>
          <p:cNvSpPr/>
          <p:nvPr/>
        </p:nvSpPr>
        <p:spPr>
          <a:xfrm>
            <a:off x="5486400" y="220968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5486400" y="251460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ZoneTexte 11"/>
          <p:cNvSpPr/>
          <p:nvPr/>
        </p:nvSpPr>
        <p:spPr>
          <a:xfrm>
            <a:off x="5486400" y="281952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ZoneTexte 12"/>
          <p:cNvSpPr/>
          <p:nvPr/>
        </p:nvSpPr>
        <p:spPr>
          <a:xfrm>
            <a:off x="2362320" y="327672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Description du Problème ou du constat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il arrivé et Pourquoi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ZoneTexte 13"/>
          <p:cNvSpPr/>
          <p:nvPr/>
        </p:nvSpPr>
        <p:spPr>
          <a:xfrm>
            <a:off x="2362320" y="4781520"/>
            <a:ext cx="18288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apporté par: (Nom du personnel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ZoneTexte 14"/>
          <p:cNvSpPr/>
          <p:nvPr/>
        </p:nvSpPr>
        <p:spPr>
          <a:xfrm>
            <a:off x="2362320" y="541008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Action Corrective prise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ce qui a été fait pour prévenir la réapparition du problème)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ZoneTexte 15"/>
          <p:cNvSpPr/>
          <p:nvPr/>
        </p:nvSpPr>
        <p:spPr>
          <a:xfrm>
            <a:off x="2819520" y="22096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Consta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D7D1-A0B8-4927-A853-C56E730C25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« Vous êtes le responsable qualité dans votre laboratoire et vous voulez organiser un audit interne. 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elles étapes allez vous suivre?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D967-03F7-48DE-BC0F-F5541802D8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Le contrôle continu est l’élément clef du succès du systèm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356F-2A17-461B-99A2-F7BF06447D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92" descr="Untitled-9"/>
          <p:cNvPicPr/>
          <p:nvPr/>
        </p:nvPicPr>
        <p:blipFill>
          <a:blip r:embed="rId1"/>
          <a:stretch/>
        </p:blipFill>
        <p:spPr>
          <a:xfrm>
            <a:off x="304920" y="603360"/>
            <a:ext cx="83818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F67C-3C0D-4A38-A956-61E38A1A42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685800" y="1371600"/>
            <a:ext cx="7696080" cy="4725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e n’est pas ce que vous trouvez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’est ce que vous faîtes de ce que vous trouvez.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20E9-AEBB-43E3-BAE8-D9001045DC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évaluation est importante dans le contrôle de l’efficacité du système qualité du laboratoi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audits externes et internes fournissent des informations util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résultats de l’évaluation est de trouver les causes du problème et de prendre des mesures correctiv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815D-D575-4DB7-9ABF-30A8EC8797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s les laboratoires devraient établir un programme d’audit interne. Conduit régulièrement, il fournira des informations favorisant les améliorations continu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 deviennent alors des opportunités d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08E1-0E1B-4704-A771-B358E76263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14640" y="29714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8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2952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FF38-A089-45C0-84F0-B13BCCFB11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8" name="Picture 27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952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AAE8-0CD0-4E0B-A032-F670ECAF53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— 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alyse systématique de certaines (ou de toutes) parties du système de gestion de la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formité aux exig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spy_guy"/>
          <p:cNvPicPr/>
          <p:nvPr/>
        </p:nvPicPr>
        <p:blipFill>
          <a:blip r:embed="rId1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:\Users\Laurence\AppData\Local\Temp\Rar$DI00.100\bulles_def.gif"/>
          <p:cNvPicPr/>
          <p:nvPr/>
        </p:nvPicPr>
        <p:blipFill>
          <a:blip r:embed="rId2"/>
          <a:stretch/>
        </p:blipFill>
        <p:spPr>
          <a:xfrm>
            <a:off x="4495680" y="3884760"/>
            <a:ext cx="19814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D4F5-268D-4ACB-B1C4-A5DD7DDB9F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ubOvalCallout"/>
          <p:cNvSpPr/>
          <p:nvPr/>
        </p:nvSpPr>
        <p:spPr>
          <a:xfrm>
            <a:off x="228600" y="1143000"/>
            <a:ext cx="7086600" cy="541008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-ce qu’une évaluation 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Une personne dema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j0234625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19320" y="2209680"/>
            <a:ext cx="51814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Qu’est ce qui est fait 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ela est il conforme aux lignes de conduite et aux procédur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BCCA-FE0A-499C-A301-A1D620939D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urquoi faire une évaluation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pprendre “ où nous en sommes ” en terme de gestion de la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 les écar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Besoin d’information pou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ifier, mettre en oeuv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MCBD19903_0000[1]"/>
          <p:cNvPicPr/>
          <p:nvPr/>
        </p:nvPicPr>
        <p:blipFill>
          <a:blip r:embed="rId1"/>
          <a:stretch/>
        </p:blipFill>
        <p:spPr>
          <a:xfrm>
            <a:off x="6934320" y="2362320"/>
            <a:ext cx="1904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CDDD-7DD7-4C84-A3D8-6C72B31390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4" descr="lab_design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5791320" y="2438280"/>
            <a:ext cx="335268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5943600" y="2971800"/>
            <a:ext cx="297180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oupe ou agences extérie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udit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udit ex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9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27"/>
          <p:cNvSpPr/>
          <p:nvPr/>
        </p:nvSpPr>
        <p:spPr>
          <a:xfrm rot="5400000">
            <a:off x="1523880" y="327636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28"/>
          <p:cNvSpPr/>
          <p:nvPr/>
        </p:nvSpPr>
        <p:spPr>
          <a:xfrm rot="13572000">
            <a:off x="3352680" y="487620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9546-C1F6-4A14-B92C-6520E4DDD4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heminement du spécim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7" descr=""/>
          <p:cNvPicPr/>
          <p:nvPr/>
        </p:nvPicPr>
        <p:blipFill>
          <a:blip r:embed="rId1"/>
          <a:srcRect l="0" t="12742" r="0" b="0"/>
          <a:stretch/>
        </p:blipFill>
        <p:spPr>
          <a:xfrm>
            <a:off x="304920" y="1338120"/>
            <a:ext cx="83055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1:22:00Z</dcterms:created>
  <dc:creator>sam5</dc:creator>
  <dc:description/>
  <dc:language>en-US</dc:language>
  <cp:lastModifiedBy>dolmazonv</cp:lastModifiedBy>
  <dcterms:modified xsi:type="dcterms:W3CDTF">2010-04-07T17:06:09Z</dcterms:modified>
  <cp:revision>152</cp:revision>
  <dc:subject/>
  <dc:title>Slide 1</dc:title>
</cp:coreProperties>
</file>